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9FBA-5892-44DC-9AF9-B1264AC67B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68A8-7EC6-41F4-B12C-F096814D3E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маркс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103F-7EEE-4329-939C-7EBBF553C8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учное понимание любой области действительности, в том числе – и истории, может быть тольк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онистиче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двух разновидностей мониз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атериализма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деализма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единственно научен, так как только он представляет историю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ъективный процесс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B48A-E363-423C-BA32-2E0A9A8ECE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ль личности в истори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истории – законы человеческой деятельности, поэтому историческая необходимость реализуется не иначе,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ерез действ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ликие исторические деятели, как правило, понимают, что действуют не «от себя», а как б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осёдлывают» объективный исторический процес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именно это и делает их велики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«субъективного метода» в социологии (Михайловского)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онцепции «героев и толпы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AF76-BD99-406A-B72F-CD06F88DEA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смысленное западничество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удущее человечества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циализм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но в России конц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начал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ка капитализм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енная альтернатива «азиатчине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питализм плох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еспотизм ещё хуж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апитализм развивает в человеке звер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спотизм превращает человека во вьючную скоти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782A-CE13-4417-8ECC-81C847444B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Осмысленное западниче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2B23-C489-4D4F-BBA8-126C2BC88F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. Ленин (1870-19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5F3C-8F7C-484C-A0BE-D0B595A35C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Ленин (1870-19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ассовая борь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революционного аванга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государ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тийность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ие корни иде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отражения и учение об объективной ист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бсолютная и относительная и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Ядро диалектик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28E4-155D-4D9E-B84D-2112B13076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лассовая бор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я классовых обществ есть истори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лассовой борь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 значимые события истории –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жде всего, конечно, политически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о отнюдь не только они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лжны пониматься как проявлени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орьбы классов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B6FB-41A0-42C4-9617-E4512A6AC6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Классовая борьб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2346-2277-48AA-B4DA-A4D94DB76C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революционного аванга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B12D-50AA-4B03-82BE-25EDD1278A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Учение о государств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B18F-EFE4-468D-856A-45BA5AC3D6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марксиз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В. Плеханов 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1856-191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044C-C21B-4827-A260-D195F73BAE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тийность философи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всегда служит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нтересам определённого класс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даже если сам философ этого не понимает и не хоче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сли философ выражает интерес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ередового класс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артийность не только не противоречит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аучной объективност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но единственно может эту объективность обеспеч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никакая установка на объективность не помешает выразителю интерес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еакционного класс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катиться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нтинаучные поз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23B0-4C7F-453B-A149-12C6C80292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ые и гносеологические корни идеализм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ий идеализм неизменно стоит на защит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еакционных интересо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ыступая формой идеологии господствующего класса на том этапе развития общественно-экономической формации, когда её прогрессивный потенциал исчерп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деализм имеет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носеологические корни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редставляя собой результат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бсолютизац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ействительных, но оторванных от целого и односторонне интерпретированных особенностей познавательного процесс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C49D-3E44-4385-9093-E47A71E57B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ия отражения и объективность истины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, материя первичны; познание есть лиш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траж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бытия в созн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пособу существ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в голове человека – знани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бъективно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 содержанию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ъективн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остольку, поскольку отражает объективную действитель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4FEA-634E-439C-80BA-DFDB7A5489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бсолютная и относительная исти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р в принципе познаваем, и в этом смысл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бсолютная исти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ости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на любом конкретном этапе познания человеку доступна лиш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носительн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т.е. неполная, обусловленная и ограниченная его специфическими обстоятельствами)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ин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ерием «истинност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акой частичной истины явля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материальная» практика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онимаемая как процесс активной, социально организованной деятельности по преобразованию окружающего мира, прежде всег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изводственной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волюционн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0204-C99B-4500-80FF-A0CAEAD234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Ядро диалект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трёх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законов диалектики»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единства и борьбы противоположносте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ехода количественных изменений в качественны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трицания отрицани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ачестве её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ядра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ыделяется закон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а и борьбы противоположностей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пределяющий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источник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азвития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характеризующий само развитие как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саморазвит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192C-B6C8-4439-B345-7C9F816DD9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единства и борьбы противополож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ерехода количественных изменений в кач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трицания отриц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объе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истор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конкрет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и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и 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и я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ходимость и случайность и 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3418-321D-40D3-A0C2-DB646EB096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976A-8C00-40CB-9971-A375C6EE73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. Плеханов (1856-19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2B9D-9958-49F0-A871-6418C90B03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 Плеханов (1856-19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арактер и функции философии и место марксизма в её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 на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марксизма в истории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части марксистской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личности в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смысленное западничество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45E0-BB3F-47FE-BA1F-7CB9AB97E4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рактер и 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 нау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пережа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науку, предлагая умозрительные решения проблем, которые пока не могут быть решены науко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резюмирует 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бобща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ешения, найденные наукой (наукам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зучает мир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о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ауки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 час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а философии – согласовать открытия разных наук и да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остную картину мир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6307-1292-4221-9E03-4340474A7D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сто марксизма в истории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рксизм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сш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очка развития материал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м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вехам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развития материализм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 Марк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. Спиноз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ранцузские материалисты эпохи Просвещения (Ж. О. Ламетри, К. А. Гельвеций, Д. Дидро,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. Гольбах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. Фейерб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рл Маркс распространил материализм на сферу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ественной жизни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8512-523B-4832-9596-E7F7AD3996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части марксистской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Душой» марксизма как философской системы является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диалект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метод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ниверсальная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теория развит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умя основными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частям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философской системы марксизма являю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лософия природы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(материалистическое понимание природы),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(материалистическое понимание истории).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7A24-3D24-4F7F-B45C-9CE6BE7A52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е о матер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динственно сущее в мире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атериальная субстанция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сновными атрибутами которой явля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вижение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ышл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я существует вне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зависим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т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я – причи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щущ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исходных и основных источников зн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F6C7-32DC-41E1-8BEB-05C5077318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нцип «всё течёт, всё изменяется»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сновной закон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его существую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 этом мир не просто изменяется, но изменя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закономерн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ступательно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ы движения мира суть закон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диалек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алектика ест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алгебра прогресса»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7F8E-1C17-468F-B40D-8A4EB922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C0D3-D1A9-46B0-A031-0D81C38E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ED99-0820-45AC-AD6D-833B0650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7FF3-F813-4733-BF04-4A9E67B1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FE17-BDC2-4674-8AE9-BB108B83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EABD-9A64-4420-8C74-7B3D9B4F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B2C7-657B-4248-A369-2A67A158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5098-2658-4350-96C0-1240BB1C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8855-9EB7-4318-AE7C-C4CFED59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E5D9-1B94-483D-99D8-1ED1B9ED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4F60-CE76-4CB9-A941-36BB9E6A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62C5-98D5-4B71-9F66-B3A2F5DC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30D4-CF06-4BA5-8820-7A145F5148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85840" y="1285560"/>
            <a:ext cx="82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Русский марксиз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учное понимание любой области действительности, в том числе – и истории, может быть тольк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онистиче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двух разновидностей мониз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атериализма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деализма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единственно научен, так как только он представляет историю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ъективный процесс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ль личности в истори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5760" y="1618920"/>
            <a:ext cx="85899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истории – законы человеческой деятельности, поэтому историческая необходимость реализуется не иначе,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ерез действ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ликие исторические деятели, как правило, понимают, что действуют не «от себя», а как б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осёдлывают» объективный исторический процес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именно это и делает их велики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«субъективного метода» в социологии (Михайловского)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онцепции «героев и толпы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смысленное западничество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удущее человечества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циализм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но в России конц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начал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ка капитализм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енная альтернатива «азиатчине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питализм плох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еспотизм ещё хуж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апитализм развивает в человеке звер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спотизм превращает человека во вьючную скоти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смысленное западниче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 rot="10800000">
            <a:off x="431280" y="1869840"/>
            <a:ext cx="575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питализ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лагает свою грязную ру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литературу и наук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спотизм убив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ку и литератур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тоны рабов заглуш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стью да свистом бич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Плеханов (1)"/>
          <p:cNvPicPr/>
          <p:nvPr/>
        </p:nvPicPr>
        <p:blipFill>
          <a:blip r:embed="rId1"/>
          <a:stretch/>
        </p:blipFill>
        <p:spPr>
          <a:xfrm>
            <a:off x="6588000" y="1989000"/>
            <a:ext cx="1828800" cy="22291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. Ленин (1870-19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Ленин (2)"/>
          <p:cNvPicPr/>
          <p:nvPr/>
        </p:nvPicPr>
        <p:blipFill>
          <a:blip r:embed="rId1"/>
          <a:stretch/>
        </p:blipFill>
        <p:spPr>
          <a:xfrm>
            <a:off x="539640" y="1798560"/>
            <a:ext cx="33210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7" name="Rectangle 5"/>
          <p:cNvSpPr/>
          <p:nvPr/>
        </p:nvSpPr>
        <p:spPr>
          <a:xfrm>
            <a:off x="4138560" y="2806560"/>
            <a:ext cx="46785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то делать? Наболевшие вопросы нашего движ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2)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изм и эмпириокритицизм: Критические заметки об одной реакционной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9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периализм как высшая стадия капитализм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5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сударство и революц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929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Ленин (1870-19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ассовая борь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революционного аванга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государ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тийность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ие корни иде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отражения и учение об объективной ист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бсолютная и относительная и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Ядро диалектик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лассовая бор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я классовых обществ есть истори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лассовой борь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 значимые события истории –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жде всего, конечно, политически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о отнюдь не только они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лжны пониматься как проявлени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орьбы классов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лассовая бор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 rot="10800000">
            <a:off x="250560" y="1690200"/>
            <a:ext cx="6297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учению социализма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марксизма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ым двигателем истор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борьба класс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учению буржуазных философ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гатель прогресса – солида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х элементов общ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вших «несовершенство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о или иного учрежден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е учение – материалистич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торое – идеалистичн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е – революционно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торое – реформистско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е обосновывает такти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летариата в совреме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питалистических страна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торое – тактику буржуаз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Ленин (2)"/>
          <p:cNvPicPr/>
          <p:nvPr/>
        </p:nvPicPr>
        <p:blipFill>
          <a:blip r:embed="rId1"/>
          <a:stretch/>
        </p:blipFill>
        <p:spPr>
          <a:xfrm>
            <a:off x="6837480" y="1690560"/>
            <a:ext cx="1724040" cy="2195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1600200" y="4479840"/>
            <a:ext cx="880920" cy="15289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67480 h 1528920"/>
              <a:gd name="textAreaBottom" fmla="*/ 1108440 h 15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520560" y="2824200"/>
            <a:ext cx="881280" cy="1528560"/>
          </a:xfrm>
          <a:custGeom>
            <a:avLst/>
            <a:gdLst>
              <a:gd name="textAreaLeft" fmla="*/ 118080 w 881280"/>
              <a:gd name="textAreaRight" fmla="*/ 763200 w 881280"/>
              <a:gd name="textAreaTop" fmla="*/ 267480 h 1528560"/>
              <a:gd name="textAreaBottom" fmla="*/ 1108440 h 152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революционного аванга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324000" y="1654200"/>
            <a:ext cx="629748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бочий класс сам по себе способе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ботать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д-юнионистское сознание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он способен вести классовую борьб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рамках капитализм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 улучшение условий труда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1403280" y="3309840"/>
            <a:ext cx="629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йти за эти рамки, начать борьб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 уничтожение самого капиталистического стро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выполнить сво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ую мисс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огильщика капитализма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абочий класс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при условии, что его деятельность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авлять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революционным авангардо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2482920" y="4965840"/>
            <a:ext cx="629748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у этого «авангарда» со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волюцио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теллиген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деющ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учной теори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ческого развития и классовой борь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Ленин (2)"/>
          <p:cNvPicPr/>
          <p:nvPr/>
        </p:nvPicPr>
        <p:blipFill>
          <a:blip r:embed="rId1"/>
          <a:stretch/>
        </p:blipFill>
        <p:spPr>
          <a:xfrm>
            <a:off x="7448400" y="1654200"/>
            <a:ext cx="1343160" cy="17096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2935440" y="4983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185580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776160" y="246384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31640" y="1619280"/>
            <a:ext cx="503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о – необходимый институ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дираемо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циальны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нтагонизмам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лассового об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1511280" y="2878200"/>
            <a:ext cx="503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ое государств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ппара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ил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беспечивающи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литическое господ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кономически доминирующего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2590920" y="4138560"/>
            <a:ext cx="503856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ходе пролетарской револю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ржуазное государство должно бы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оман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замене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ктатур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летариат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форме власти Сов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3670200" y="5397480"/>
            <a:ext cx="503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мере постро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ммунистического обще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месте с отмиранием класс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тмирать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государ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е о государ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Ленин (2)"/>
          <p:cNvPicPr/>
          <p:nvPr/>
        </p:nvPicPr>
        <p:blipFill>
          <a:blip r:embed="rId1"/>
          <a:stretch/>
        </p:blipFill>
        <p:spPr>
          <a:xfrm>
            <a:off x="7124760" y="1619280"/>
            <a:ext cx="1630440" cy="20746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марксиз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7480" y="1798200"/>
            <a:ext cx="305928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 Плехано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56-19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Плеханов (1)"/>
          <p:cNvPicPr/>
          <p:nvPr/>
        </p:nvPicPr>
        <p:blipFill>
          <a:blip r:embed="rId1"/>
          <a:stretch/>
        </p:blipFill>
        <p:spPr>
          <a:xfrm>
            <a:off x="755640" y="1773360"/>
            <a:ext cx="2724120" cy="30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6" name="Rectangle 5"/>
          <p:cNvSpPr/>
          <p:nvPr/>
        </p:nvSpPr>
        <p:spPr>
          <a:xfrm>
            <a:off x="3057480" y="5576760"/>
            <a:ext cx="2519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 Лен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0-192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Ленин (3)"/>
          <p:cNvPicPr/>
          <p:nvPr/>
        </p:nvPicPr>
        <p:blipFill>
          <a:blip r:embed="rId2"/>
          <a:stretch/>
        </p:blipFill>
        <p:spPr>
          <a:xfrm>
            <a:off x="5651640" y="3309840"/>
            <a:ext cx="2724120" cy="3057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тийность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всегда служи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ересам определённого клас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даже если сам философ этого не понимает и не хоче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философ выражает интерес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едового класса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артийность не только не противоречи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аучной объектив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единственно может эту объективность обеспеч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никакая установка на объективность не помешает выразителю интересов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акционного клас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катиться 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тинаучные поз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ые и гносеологические корни идеализ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78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ский идеализм неизменно стоит на защит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акционных интересов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ыступая формой идеологии господствующего класса на том этапе развития общественно-экономической формации, когда её прогрессивный потенциал исчерп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идеализм имеет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ческие корни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редставляя собой результа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бсолютиза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ействительных, но оторванных от целого и односторонне интерпретированных особенностей познавательного процесс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отражения и объективность истин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рода, материя первичны; познание есть лиш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раж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тия в созн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особу существова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в голове человека – знани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о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 содержанию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ъектив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остольку, поскольку отражает объективную действитель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бсолютная и относительная исти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760" y="1619280"/>
            <a:ext cx="8231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р в принципе познаваем, и в этом смысл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бсолютная исти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ости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на любом конкретном этапе познания человеку доступна лиш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носительн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т.е. неполная, обусловленная и ограниченная его специфическими обстоятельствами)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ин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ерием «истинност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акой частичной истины явля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материальная» практика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онимаемая как процесс активной, социально организованной деятельности по преобразованию окружающего мира, прежде всег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изводственной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волюционн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Ядро диалект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трёх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законов диалектики»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единства и борьбы противоположносте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ехода количественных изменений в качественны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трицания отрицани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ачестве её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ядра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ыделяется закон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а и борьбы противоположностей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пределяющий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источник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азвития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характеризующий само развитие как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саморазвит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1928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единства и борьбы противополож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ерехода количественных изменений в кач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трицания отриц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объе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истор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конкрет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и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и 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и я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ходимость и случайность и 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0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. Плеханов (1856-19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Плеханов (1)"/>
          <p:cNvPicPr/>
          <p:nvPr/>
        </p:nvPicPr>
        <p:blipFill>
          <a:blip r:embed="rId1"/>
          <a:stretch/>
        </p:blipFill>
        <p:spPr>
          <a:xfrm>
            <a:off x="431640" y="1798560"/>
            <a:ext cx="3846600" cy="431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1" name="Rectangle 5"/>
          <p:cNvSpPr/>
          <p:nvPr/>
        </p:nvSpPr>
        <p:spPr>
          <a:xfrm>
            <a:off x="4497480" y="3238560"/>
            <a:ext cx="44258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вопросу о развитии монистического взгляда на истори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публ. 1895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вопросу о роли личности в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8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Materialismus militans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8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929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 Плеханов (1856-19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арактер и функции философии и место марксизма в её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 на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марксизма в истории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части марксистской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личности в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смысленное западничество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рактер и 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 нау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пережа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науку, предлагая умозрительные решения проблем, которые пока не могут быть решены науко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резюмирует 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бобща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ешения, найденные наукой (наукам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зучает мир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о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ауки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 час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а философии – согласовать открытия разных наук и да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остную картину мир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сто марксизма в истории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рксизм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сш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очка развития материал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м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вехам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развития материализм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 Марк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. Спиноз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ранцузские материалисты эпохи Просвещения (Ж. О. Ламетри, К. А. Гельвеций, Д. Дидро,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. Гольбах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. Фейерб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рл Маркс распространил материализм на сферу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ественной жизни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части марксистской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Душой» марксизма как философской системы является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диалект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метод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ниверсальная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теория развит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умя основными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частям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философской системы марксизма являю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лософия природы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(материалистическое понимание природы),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(материалистическое понимание истории).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е о матер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динственно сущее в мире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атериальная субстанция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сновными атрибутами которой явля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вижение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ышл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я существует вне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зависим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т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я – причи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щущ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исходных и основных источников зн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 «всё течёт, всё изменяется»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сновной зако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сего существую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этом мир не просто изменяется, но изменя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кономер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ступательно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движения мира суть закон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иалек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лектика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алгебра прогресса»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4:58:11Z</dcterms:created>
  <dc:creator>Николай Бирюков / Nikolai Biryukov</dc:creator>
  <dc:description>Версия апреля 2007 г.</dc:description>
  <dc:language>en-US</dc:language>
  <cp:lastModifiedBy>LEGION</cp:lastModifiedBy>
  <dcterms:modified xsi:type="dcterms:W3CDTF">2014-11-11T10:17:01Z</dcterms:modified>
  <cp:revision>15</cp:revision>
  <dc:subject>История русской философии - Лекция 9</dc:subject>
  <dc:title>Русский марксизм</dc:title>
</cp:coreProperties>
</file>